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6.gif" ContentType="image/gif"/>
  <Override PartName="/ppt/media/image17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A7D-8D55-464E-B63E-7321EC8F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E09-BA3D-47F2-BA74-90FE6D98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E16B-D2DE-48F7-B067-E54C6525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73E5-994E-4369-A9B1-75ADECC3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BCDE-391A-4FA9-B4D6-DF3F2A02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F64E-4B46-4D50-B509-5A833FB7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5C43-FE0B-4B41-9150-BE7F2235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C928-B5D5-4DFA-94AA-BEF31D97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3EB9-AFE1-4273-9057-E3201222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330A-D6DB-40B7-A802-168C23DD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C20D-8557-44E7-BDDE-426E9173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8DF-C4C8-46D1-85D3-D1EC65EA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BC20-4B66-4B92-BD6B-40D85C10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CDFC-EB7D-4490-AE91-8C2622EE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87AC-018C-411C-9483-AD78E3C3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8AD8-9DD9-42FA-9DC7-5235C0BC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97A9-EF20-4847-8141-5826BF21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2D4-12F5-4214-AE26-12363CF3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BC6-C77E-4E57-B4E0-8DC034D7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E7D2-10DC-464D-A594-30FDBB60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6704-4C7A-496F-BB82-A746FE02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0A7-B453-4E6C-A8FA-99EEC58D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E39-18C7-4F9A-BA99-CE5B7375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EBC-3395-43D3-BF9F-62E08461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B97C-1FDA-4817-B07C-BC9C18C7E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7E27-4B05-48C3-ACA1-00145F4A3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gdickins@odu.edu" TargetMode="External"/><Relationship Id="rId2" Type="http://schemas.openxmlformats.org/officeDocument/2006/relationships/hyperlink" Target="mailto:bstripling@schools.nyc.gov" TargetMode="External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ala.org/ala/aasl/aaslproftools/learningstandards/standards.cfm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Standards for the 2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Papyrus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 Century Lea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LMS Leadership Ret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August 3-4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3520" y="5335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2590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qui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1066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formation Et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281952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2819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3962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quity and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il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4572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nk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238880" y="4876920"/>
            <a:ext cx="1438560" cy="1819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358040" y="2590920"/>
            <a:ext cx="1785960" cy="1557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2743200" y="380880"/>
            <a:ext cx="1047600" cy="10764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0" y="5084640"/>
            <a:ext cx="1868400" cy="1773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6858000" y="533520"/>
            <a:ext cx="1616040" cy="1806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4038480" y="5105520"/>
            <a:ext cx="1184400" cy="14889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7"/>
          <a:stretch/>
        </p:blipFill>
        <p:spPr>
          <a:xfrm>
            <a:off x="380880" y="2971800"/>
            <a:ext cx="1841760" cy="18381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2666880" y="2209680"/>
            <a:ext cx="1841760" cy="13273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457200" y="990720"/>
            <a:ext cx="139068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5335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2590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qui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1066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formation Et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281952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819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3962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quity and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48769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il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4572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nk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238880" y="4876920"/>
            <a:ext cx="1438560" cy="18190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358040" y="2590920"/>
            <a:ext cx="1785960" cy="1557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590920" y="457200"/>
            <a:ext cx="1047600" cy="10764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0" y="5084640"/>
            <a:ext cx="1868400" cy="17733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6858000" y="533520"/>
            <a:ext cx="1616040" cy="1806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4038480" y="5105520"/>
            <a:ext cx="1184400" cy="14889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380880" y="2971800"/>
            <a:ext cx="1841760" cy="18381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8"/>
          <a:stretch/>
        </p:blipFill>
        <p:spPr>
          <a:xfrm>
            <a:off x="2666880" y="2209680"/>
            <a:ext cx="1841760" cy="13273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9"/>
          <a:stretch/>
        </p:blipFill>
        <p:spPr>
          <a:xfrm>
            <a:off x="457200" y="914400"/>
            <a:ext cx="1390680" cy="1501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419720" y="2590920"/>
            <a:ext cx="76176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133720" y="4267080"/>
            <a:ext cx="114300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1371600" y="1752480"/>
            <a:ext cx="5943600" cy="4267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752480" y="1904760"/>
            <a:ext cx="5334120" cy="3886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4647960" y="1371240"/>
            <a:ext cx="75960" cy="3962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599840" y="1600200"/>
            <a:ext cx="1066680" cy="1219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1371240" y="761760"/>
            <a:ext cx="6172200" cy="2514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7543800" y="3048120"/>
            <a:ext cx="60948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52680" y="1523880"/>
            <a:ext cx="3429000" cy="3200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The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17524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23623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The Standa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Learners use information literacy skills, resources and tool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Inquire, think critically, and gain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Draw conclusions, make informed decisions, apply knowledge to new situations, and create new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hare knowledge and participate ethically and productively as members of our democratic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Pursue personal and aesthetic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The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7524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93280" y="320040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23623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14600" y="38862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Str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Four parts of each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kill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Dispositions in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elf-Assessment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Ski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Key abilities needed for understanding, learning, thinking, and mastering su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Multiple liter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Critical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ocial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Inquiry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Content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330880" y="1986120"/>
            <a:ext cx="267336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415908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Dispositions in 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Ongoing beliefs and attitudes that guide thinking and intellectual behavior that can be measured through actions ta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Cur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Resi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Flex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Imagi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Refl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Self-evalu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776840" y="1600200"/>
            <a:ext cx="38210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Responsibil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Common behaviors used by independent learners in researching, investigating, and problem sol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Follow ethical &amp; legal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Respect principals of Intellectual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Pursue multiple perspectives &amp; balance of view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Practice safe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Contribute to the exchange of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Respect ideas &amp; experiences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2514600" cy="22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Self-Assessment Strateg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Reflections on one’s own learning to determine that the skills, dispositions, and responsibilities are eff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Processes of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Products of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Three-dire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pyru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Summ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pyru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Form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Papyru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Predi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9200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Gail Dickinson</a:t>
            </a:r>
            <a:br>
              <a:rPr sz="4400"/>
            </a:br>
            <a:r>
              <a:rPr b="0" lang="en-US" sz="4400" spc="-1" strike="noStrike" u="sng">
                <a:solidFill>
                  <a:srgbClr val="0066ff"/>
                </a:solidFill>
                <a:uFillTx/>
                <a:latin typeface="Papyrus"/>
                <a:hlinkClick r:id="rId1"/>
              </a:rPr>
              <a:t>gdickins@odu.edu</a:t>
            </a: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Papyrus"/>
              </a:rPr>
              <a:t>Barbara Stripling</a:t>
            </a:r>
            <a:br>
              <a:rPr sz="4400"/>
            </a:br>
            <a:r>
              <a:rPr b="0" lang="en-US" sz="4400" spc="-1" strike="noStrike" u="sng">
                <a:solidFill>
                  <a:srgbClr val="0066ff"/>
                </a:solidFill>
                <a:uFillTx/>
                <a:latin typeface="Papyrus"/>
                <a:hlinkClick r:id="rId2"/>
              </a:rPr>
              <a:t>bstripling@schools.nyc.gov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The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17524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93280" y="320040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078640" y="4572000"/>
            <a:ext cx="2634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Indicators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3623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51814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Sub-categories that describe what abilities students should demonstrate within each of the four strands of each standa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85800" y="1676520"/>
          <a:ext cx="8001000" cy="29988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Standard 1:  Inquire, think critically, and gain knowledg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Strand 1.1: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Indicator 1.1.1: Follow an inquiry-based process in seeking knowledge in curricular subjects, and make the real-world connection for using this process in own lif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The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17524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93280" y="320040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78640" y="4572000"/>
            <a:ext cx="2634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Indicators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5791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Bench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28800" y="23623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38862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51814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Bench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Abilities students should demonstrate by the end of grades 2, 5, 8, 10 &amp; 12+ for each indic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Bench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85800" y="1828800"/>
          <a:ext cx="8001000" cy="42814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Standard 1:  Inquire, think critically, and gain knowledg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Strand 1.1: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Indicator 1.1.1: Follow an inquiry-based process in seeking knowledge in curricular subjects, and make the real-world connection for using this process in own lif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Grade 5 Benchmark: Follow a process whenever pursuing new information through inquiry or researc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Standards for th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2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Papyrus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 Century Lea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ALA | AASL Standards for the 21st-Century 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The Standa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Learners use information literacy skills, resources and tool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Inquire, think critically, and gain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Draw conclusions, make informed decisions, apply knowledge to new situations, and create new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hare knowledge and participate ethically and productively as members of our democratic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Papyr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Pursue personal and aesthetic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0292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pyrus"/>
              </a:rPr>
              <a:t>Get Se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pyrus"/>
              </a:rPr>
              <a:t>Learning Standards vs. Guid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Learning Standards define what we expect students to be able to do as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31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Lesson:  Standards 3 &amp;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Possible Un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Elementary unit on im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Elementary through high school unit on theme of belonging and personal and cultur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Book discussion group for elementary through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Decision:  Book discussion group to introduce concepts of personal and cultur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pyrus"/>
              </a:rPr>
              <a:t>Standard 3: </a:t>
            </a: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Share knowledge and participate ethically and productively as members of our democratic society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kill: 3.1.2: Participate and collaborate as members of a social and intellectual network of lear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Disposition in Action 3.2.2: Show social responsibility by participating actively with others in learning situations and by contributing questions and ideas during group discu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Standard 4: </a:t>
            </a: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Pursue personal and aesthetic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kill 4.1.1: Read, view, and listen for pleasure and personal grow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Responsibility: 4.3.1 Participate in the social exchange of ideas, both electronically and in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pyrus"/>
              </a:rPr>
              <a:t>Contribution to Group 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What is the main idea that I contributed to the group discu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What two ideas from others caused me to rethink my own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How did I help the group reach consen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What did I do to make sure that the group discussion included and respected all me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Curriculum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Pick one unit currently being done in your school that would be a good opportunity for integration of a skill, disposition, a responsibility, and/or a self-assessment strate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Development of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Use the Lesson Plan Template to design a lesson to teach a skill within your un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You may also decide to include a disposition, responsibility, or self-assessment strate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(You may copy the template onto chart paper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Gallery W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3725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pyrus"/>
              </a:rPr>
              <a:t>Actio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pyrus"/>
              </a:rPr>
              <a:t>Presenting the Standards to Ot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Constit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Librar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District/BO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chool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Legis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Professional Ass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Top Ten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897280" y="1371600"/>
            <a:ext cx="3430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pyrus"/>
              </a:rPr>
              <a:t>Learning Standards vs. Guid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Guidelines define what an exemplary school library media program looks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5480" y="2971800"/>
            <a:ext cx="58676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Developing An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Use Action Plan Grid to help you focus on what will be your first three actions to implement the new standards in your school or other work si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110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Papyrus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Go forth and spread the word of the AASL National Standards for the 2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Papyrus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-Century Lea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History of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1986 – Information Power Information Literacy Standards for Stu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9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Focus on information literac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Embedded in national guide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Papyru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(Chapter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No assessments, little emphasis on reading or other teaching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pyrus"/>
              </a:rPr>
              <a:t>Get Read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Foundation of Beli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858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Common Beli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Reading is a window to the world.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Inquiry provides a framework for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Ethical behavior in the use of information must be tau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Technology skills are crucial for future employment 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Equitable access is a key component for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The definition of information literacy has become more complex as resources and technologies have changed.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The continuing expansion of information demands that all individuals acquire the thinking skills to learn on their 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Learning has a social con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chool libraries are essential to the development of learning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Start by Thin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Who can we Dance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Building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Distric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Stat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Nat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846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02:40:54Z</dcterms:created>
  <dc:creator>au</dc:creator>
  <dc:description/>
  <dc:language>en-US</dc:language>
  <cp:lastModifiedBy>Barbara Stripling</cp:lastModifiedBy>
  <dcterms:modified xsi:type="dcterms:W3CDTF">2008-07-16T04:12:23Z</dcterms:modified>
  <cp:revision>17</cp:revision>
  <dc:subject/>
  <dc:title>Slide 1</dc:title>
</cp:coreProperties>
</file>